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48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48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8852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5392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3636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4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5392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3636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48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48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48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8852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48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4280" y="0"/>
            <a:ext cx="9131760" cy="6845760"/>
            <a:chOff x="31428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70240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428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000080" y="304920"/>
            <a:ext cx="7772400" cy="147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6bf69"/>
                </a:solidFill>
                <a:latin typeface="Arial"/>
                <a:ea typeface="Arial"/>
              </a:rPr>
              <a:t>SunPC</a:t>
            </a:r>
            <a:r>
              <a:rPr b="0" lang="en-US" sz="4800" spc="-1" strike="noStrike" baseline="30000">
                <a:solidFill>
                  <a:srgbClr val="f6bf69"/>
                </a:solidFill>
                <a:latin typeface="Arial"/>
                <a:ea typeface="Arial"/>
              </a:rPr>
              <a:t>™</a:t>
            </a:r>
            <a:r>
              <a:rPr b="0" lang="en-US" sz="4800" spc="-1" strike="noStrike">
                <a:solidFill>
                  <a:srgbClr val="f6bf69"/>
                </a:solidFill>
                <a:latin typeface="Arial"/>
                <a:ea typeface="Arial"/>
              </a:rPr>
              <a:t> Bundles</a:t>
            </a:r>
            <a:br>
              <a:rPr sz="1800"/>
            </a:br>
            <a:r>
              <a:rPr b="0" i="1" lang="en-US" sz="2800" spc="-1" strike="noStrike">
                <a:solidFill>
                  <a:srgbClr val="f6bf69"/>
                </a:solidFill>
                <a:latin typeface="Arial"/>
                <a:ea typeface="Arial"/>
              </a:rPr>
              <a:t>Nutzen Sie Ihre MS-DOS-Anwendungen  auf einem SPARC</a:t>
            </a:r>
            <a:r>
              <a:rPr b="0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®-</a:t>
            </a:r>
            <a:r>
              <a:rPr b="0" i="1" lang="en-US" sz="2800" spc="-1" strike="noStrike">
                <a:solidFill>
                  <a:srgbClr val="f6bf69"/>
                </a:solidFill>
                <a:latin typeface="Arial"/>
                <a:ea typeface="Arial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19200" y="1752480"/>
            <a:ext cx="46227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t einem SunPC Hardware/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-Bundle erhalten SPARC-Benutzer di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chnellst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ösung für die Nutzung von MS-DOS-Anwendu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PC-Bundles unterstützen auch Microsoft Windows- Anwen-dungen, die nicht in der Liste der von Wabi™ unterstützten Anwendungen enthalten si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PC 4.1 unterstützt die meisten der gebräuchlichen PC-Netzwerk-protokolle, einschließlich TCP/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495760" y="1752480"/>
            <a:ext cx="3854520" cy="25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eitere Informationen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 SunPC erhalten Sie unter 512/434-1511. Drücken Sie die „1“. Sie können auch unsere Homepage im World Wide Web nutz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sun.com/sunsoft/Products/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-Integration-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95760" y="4255920"/>
            <a:ext cx="36511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Zum Kauf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n SunPC rufen Sie 512/434-1511 an. Drücken Sie die „2“. Sie können sich auch an  Ihren Sun-Händler we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