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98820"/>
        <c:axId val="27627167"/>
      </c:barChart>
      <c:catAx>
        <c:axId val="657988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27167"/>
        <c:crosses val="autoZero"/>
        <c:auto val="1"/>
        <c:lblAlgn val="ctr"/>
        <c:lblOffset val="100"/>
        <c:noMultiLvlLbl val="0"/>
      </c:catAx>
      <c:valAx>
        <c:axId val="27627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98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892-C77E-459A-BF61-D1FFFE16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FFC-B324-4727-9D72-D78A709E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38C-3518-4F9E-A1A8-A6295D37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F394-0F77-4DAA-A5AB-BA0B6085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EF9A-EFBF-4034-B7B8-B5480B18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345F-5020-42DB-9009-46C4C307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266-BFD4-48D1-804B-5E3DA43C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9E70-ACDB-49DC-B458-21A44865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A24F-157B-4325-B137-FAEED322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3FF5-24C0-4214-A860-EAF376E7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6B9C-30FA-4770-822E-3017EBD9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FB9C-CFC8-4EED-A4BC-4A00AB55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66D40-F81D-48E0-9626-C1F229CAE0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