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748257"/>
        <c:axId val="74197687"/>
      </c:barChart>
      <c:catAx>
        <c:axId val="797482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197687"/>
        <c:crosses val="autoZero"/>
        <c:auto val="1"/>
        <c:lblAlgn val="ctr"/>
        <c:lblOffset val="100"/>
        <c:noMultiLvlLbl val="0"/>
      </c:catAx>
      <c:valAx>
        <c:axId val="741976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7482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3407-7DEF-4C66-8662-9DB794FEC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73CF-002F-4EDD-A863-1D2506FC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6776-AD3D-4997-B5B7-005524494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C257-1CA1-448A-96CE-8B9C51D90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044D-D482-4799-A041-AA2FC948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5FDA-4B82-4A63-8469-511BC55B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2FEF-1435-489A-B399-BA0F46A1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376C-C46A-46F8-9886-27D564BD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F3BB-BF89-44B8-BD8E-06F012A6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A1A3-7032-4E18-9C44-5BBD0E16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EE6D-9F95-43C8-86C9-E8F664A2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C03C-5903-4DA7-A2A8-E69A09C6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A828D-1DD1-477F-9943-D99720A7BC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