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87345"/>
        <c:axId val="50027162"/>
      </c:barChart>
      <c:catAx>
        <c:axId val="261873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27162"/>
        <c:crosses val="autoZero"/>
        <c:auto val="1"/>
        <c:lblAlgn val="ctr"/>
        <c:lblOffset val="100"/>
        <c:noMultiLvlLbl val="0"/>
      </c:catAx>
      <c:valAx>
        <c:axId val="50027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873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295-794A-4F34-9AFB-A712ADFA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E7A-BD54-49D5-A462-6F2C4C02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A7E-C0E4-4D51-B413-D7EE79CC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CAFE-E694-470C-B1C8-52348065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E64-4CAB-41C3-9F47-7C7946FF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4F8-0472-4C54-B77E-CF755D01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F63-B1C9-46A6-817F-1167EE55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B0DA-5CA8-478A-8E93-46C4F9D5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2BAE-6A84-422D-A1A4-8A0B708A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114-8691-4452-A09A-728E6742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06A5-9B3B-4D62-AF80-68BC8B75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A95-0264-4356-AA2C-695EABC8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212CA-B972-414E-9FB3-BA75292EE3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