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8917"/>
        <c:axId val="49597733"/>
      </c:barChart>
      <c:catAx>
        <c:axId val="66428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97733"/>
        <c:crosses val="autoZero"/>
        <c:auto val="1"/>
        <c:lblAlgn val="ctr"/>
        <c:lblOffset val="100"/>
        <c:noMultiLvlLbl val="0"/>
      </c:catAx>
      <c:valAx>
        <c:axId val="49597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8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68F-DCAB-4239-B56C-CFC68C64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933-8A69-411B-AF21-C9B243C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011-DDB6-4472-8030-67B600D1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FA8-EA42-4480-99F1-5D70B7C2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716-41C4-4C31-A1CC-6080355B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DA3-F5DB-40EB-AECB-CE9F708A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DA1-79A6-4448-92DD-EEC5CD7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775-635E-4BE8-99DD-95EEEB8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E1D-342D-456C-89CA-E5F6675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2AF-D2AD-4366-9235-CF1A7CC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C62-0E38-4388-9B76-50920961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422-C432-4DEA-8579-48C62F1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D7322-3FB4-4D88-89E7-23E68EBC28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