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3928"/>
        <c:axId val="41476500"/>
      </c:barChart>
      <c:catAx>
        <c:axId val="6203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76500"/>
        <c:crosses val="autoZero"/>
        <c:auto val="1"/>
        <c:lblAlgn val="ctr"/>
        <c:lblOffset val="100"/>
        <c:noMultiLvlLbl val="0"/>
      </c:catAx>
      <c:valAx>
        <c:axId val="41476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71D-E9AA-4B57-995A-69FC8FAA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9E9-2DA1-4B73-936E-B4419690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898-445E-44CE-9BBD-E3A3227E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2D9-FF39-46C4-A792-E9F1F403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24C-D16C-4F95-8D60-A8ADE81C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7CA-D900-477E-8A3A-4A862BDA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BC0-A908-435D-B73A-2F2AF9F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76E-3F07-496F-B0B0-C25D8BE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B1A-4539-4668-AD95-1265144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B20-C0CE-4D71-90B8-92B876EE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3FE-C831-4761-859E-F0E9409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E2E-80AA-431E-82BF-F4F1485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9B3C8-4B26-4B7B-843A-A8D306AF8D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