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48080"/>
        <c:axId val="96991359"/>
      </c:barChart>
      <c:catAx>
        <c:axId val="10448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91359"/>
        <c:crosses val="autoZero"/>
        <c:auto val="1"/>
        <c:lblAlgn val="ctr"/>
        <c:lblOffset val="100"/>
        <c:noMultiLvlLbl val="0"/>
      </c:catAx>
      <c:valAx>
        <c:axId val="96991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48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53D-1253-4425-B646-FD5040F1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398-AA87-4A19-921B-C5C3F06B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56B-291C-43F6-9D67-AA2FCB4D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44AA-BC2D-4A90-9262-C8B37AD5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375-DF5D-40E9-BA45-125EE3F7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C29-981B-4EC3-9B5F-9A3B5018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F08-750E-4C5D-A411-563D9710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262-EB8E-4A1E-98AF-22A86E7F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767-D967-4BA7-9156-A6AB8027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140-8215-4E34-895E-57497750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657-8CEC-465A-86C4-F132D512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307-C24F-45B2-BC03-EF6BA7E0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FC039-6369-4285-B9A3-490865C592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