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2503756"/>
        <c:axId val="37035150"/>
      </c:barChart>
      <c:catAx>
        <c:axId val="5250375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035150"/>
        <c:crosses val="autoZero"/>
        <c:auto val="1"/>
        <c:lblAlgn val="ctr"/>
        <c:lblOffset val="100"/>
        <c:noMultiLvlLbl val="0"/>
      </c:catAx>
      <c:valAx>
        <c:axId val="3703515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50375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01261-DE1A-47C9-A49E-630E668D1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210E5-95B7-4E4C-9E0F-FBAEEFBE4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3001D-A2C6-4E31-885C-B8B77ABD4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E1E0E-9D54-428A-8763-4DC70C0FA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C1D93-8F4F-42B3-97C5-5BF1EDDEE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C390A-74DB-4B9A-83DE-C99B597AD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04165-F11E-47F4-A40F-A5F1A07B8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21536-6432-43B4-A281-AC5B99044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DF970-8B65-42CE-975B-9BF717E91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9CB33-A57A-4DDB-B23B-3C1E5A469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341DC-8115-4EEF-8C78-26E49EF36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74C0D-51F2-4587-BE17-F038EE333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F7A84A-EEA7-47B0-A2A8-51D3816F23E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