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3800"/>
        <c:axId val="14545937"/>
      </c:barChart>
      <c:catAx>
        <c:axId val="7573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45937"/>
        <c:crosses val="autoZero"/>
        <c:auto val="1"/>
        <c:lblAlgn val="ctr"/>
        <c:lblOffset val="100"/>
        <c:noMultiLvlLbl val="0"/>
      </c:catAx>
      <c:valAx>
        <c:axId val="14545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3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8CC-98E2-42F8-A0FA-CBDDA55D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231-5A22-472B-B09F-40371FBC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11C-D4A4-4C61-B79F-981426A6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B91-A4B3-4268-9887-E9B660E4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022-9DAF-469A-9B05-106716B7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FEC-CC8D-4B7B-A59A-2D7FF048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D6D9-9CFF-4844-B639-1BB35AC3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CC7-2499-4AB4-9E45-B1870664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CF3-491E-443E-AF44-C5E82F02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0EF-E1D0-4FC2-B192-BAF7BDC0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4DB-5F60-4AF1-8368-E936B015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834-5E9B-4116-A7E9-D3E405D4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44456-62D0-4749-AC79-D4E19F4D34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