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08623"/>
        <c:axId val="50302512"/>
      </c:barChart>
      <c:catAx>
        <c:axId val="67508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02512"/>
        <c:crosses val="autoZero"/>
        <c:auto val="1"/>
        <c:lblAlgn val="ctr"/>
        <c:lblOffset val="100"/>
        <c:noMultiLvlLbl val="0"/>
      </c:catAx>
      <c:valAx>
        <c:axId val="50302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08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621-8470-4B2F-9608-6AD40E4B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7C9-06A6-4134-9A6D-216A5C4D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9C8-B82F-400B-9B78-C673CE2E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08D-C29E-4905-9776-2C670703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776-B1B2-4BA1-989A-D1A17789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5F2-7381-492B-B95F-2991D985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3AC-9CA4-4253-AF65-94F597CE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253-F6B4-48BC-8A90-BE67A1BB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954-4458-4157-9798-556DF3A6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9F2-1F9A-4D19-9956-1F070365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08D-6477-4E56-B2C0-8EA2EDB5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A21-ACF0-4CE2-9614-1E48852A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06E2B-C6F6-49AB-905C-893541893F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