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174334"/>
        <c:axId val="79003973"/>
      </c:barChart>
      <c:catAx>
        <c:axId val="741743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03973"/>
        <c:crosses val="autoZero"/>
        <c:auto val="1"/>
        <c:lblAlgn val="ctr"/>
        <c:lblOffset val="100"/>
        <c:noMultiLvlLbl val="0"/>
      </c:catAx>
      <c:valAx>
        <c:axId val="790039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743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117B-390C-4A87-9AAD-F74A25AB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281F-2FFB-4203-96A5-B3EA7D9C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4095-0B2B-44C9-95BF-139961570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28B8-EE4B-4962-AD9A-A96D833D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E054-3C49-41E5-A71C-2328B6DE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9339-D2AC-4A3A-8C65-824B09400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315E-A734-4E81-BAD7-4FF8379E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0178-BC42-40E3-9CC0-982DE377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30D8-9C71-483F-9ADC-25693CD4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4CD8-E8DD-4632-946B-512848D6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FD5B-EDB8-4A16-92F9-63C4E0C1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BC4F-6B7B-439A-A1D8-D800BEE8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C9215D-7AFD-4886-8E38-0CBAB8A152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