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59628"/>
        <c:axId val="99473535"/>
      </c:barChart>
      <c:catAx>
        <c:axId val="30659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73535"/>
        <c:crosses val="autoZero"/>
        <c:auto val="1"/>
        <c:lblAlgn val="ctr"/>
        <c:lblOffset val="100"/>
        <c:noMultiLvlLbl val="0"/>
      </c:catAx>
      <c:valAx>
        <c:axId val="99473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59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7A8-9ACC-410D-ACBD-6F03CAB4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465-0478-4DBC-89B1-F1AE5FD8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361-8520-4E32-9B9B-BF3B8C5C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20E-23C5-40E5-9F9D-00AC29B3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408-4B2E-45C1-ACB2-E48199B8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305-F883-4ABB-827E-C1BEA249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AF3-596D-4BFA-96BD-467A5A51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507-6C99-49FD-98E0-7A880CFA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50D-33EC-48BE-AEF2-0174C472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8E0-6625-4295-B80C-80136161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027-F3CD-4034-BA99-E89E89DE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F1C-2A9D-4CBF-9E04-529FA3F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449CD-2C82-4C7B-85FF-13E843F156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