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11090"/>
        <c:axId val="70796138"/>
      </c:barChart>
      <c:catAx>
        <c:axId val="44611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96138"/>
        <c:crosses val="autoZero"/>
        <c:auto val="1"/>
        <c:lblAlgn val="ctr"/>
        <c:lblOffset val="100"/>
        <c:noMultiLvlLbl val="0"/>
      </c:catAx>
      <c:valAx>
        <c:axId val="70796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11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55C-64CE-4E67-B770-2347E6C7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83E-D5B8-4AE1-95B8-FB61552C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3DE-C05C-4400-8E1C-26DF7E17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92A-1CAE-4BFC-8383-587BDEB2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E7B-CEF0-4CB5-A6D4-9FFA869D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BA9-BD5B-49FB-B681-7421E3CE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62E-29EC-4247-A1AE-94364067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7D6-49F3-4BF2-8BF6-0291D7AB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1C4-DE9F-481E-8039-48D17C60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A77-5F4F-43AC-A23A-9C07E8C8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827-0EAA-4D74-8D6E-6FE9504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69B-0CF2-4606-B24C-62966F7A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BF477-43D5-44F2-A79F-9689C8A21E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