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78566"/>
        <c:axId val="60690738"/>
      </c:barChart>
      <c:catAx>
        <c:axId val="88078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0738"/>
        <c:crosses val="autoZero"/>
        <c:auto val="1"/>
        <c:lblAlgn val="ctr"/>
        <c:lblOffset val="100"/>
        <c:noMultiLvlLbl val="0"/>
      </c:catAx>
      <c:valAx>
        <c:axId val="60690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78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2B7-D8AE-4AE3-8298-581DE1EC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0F2-5496-4FD9-9FB8-33B6D761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59F-9B9C-42F8-847C-EC7EA85A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1E4-8FAE-46AB-A9D1-48A671BD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5DE-D622-460A-9224-30851D94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15C-C580-4B2A-817C-D45757F7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A2C-E6DD-49D3-8AA7-B948D00B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6AB-87D5-4A5D-BD26-139FE544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510-2C79-452C-99D1-41D852BA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E58-B201-4456-B385-CB335F25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EE4-83F3-43B0-8F02-5A269CE4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502-FB81-4C6A-92EA-9E1A8FB6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C9932-E0A0-432D-901C-B019B5B5F9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